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ADC-864D-41AD-BF8E-7608DBB8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8B3-F9DA-49B2-AA37-C92CBDDE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A55-CD2E-42B3-A80F-2D2A4260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389-3AC0-4286-A42D-60FA761E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9D8-CDD8-49BD-8244-50DD4C53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A7A-C1F7-477F-9D50-6ACA99A2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3E4-78F6-42B8-9B61-AD634B8D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54B-E8EC-4020-947A-74FB7E1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776-D5E8-4F13-B749-573EAE4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240-77E2-4D32-99BC-B92FE88A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9A2-5EB6-4E4C-8AF9-A86E61F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8D9-BED6-410D-88B3-69A935C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93DD-2EF2-418B-AD88-6C9FE6986B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600"/>
                </a:solidFill>
                <a:latin typeface="Times New Roman"/>
              </a:rPr>
              <a:t>«Что нужно знать о здоровом питании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5a00"/>
              </a:solidFill>
              <a:latin typeface="Times New Roman"/>
            </a:endParaRPr>
          </a:p>
        </p:txBody>
      </p:sp>
      <p:pic>
        <p:nvPicPr>
          <p:cNvPr id="44" name="Picture 40" descr="citronu_bummbas_l_0"/>
          <p:cNvPicPr/>
          <p:nvPr/>
        </p:nvPicPr>
        <p:blipFill>
          <a:blip r:embed="rId1"/>
          <a:stretch/>
        </p:blipFill>
        <p:spPr>
          <a:xfrm>
            <a:off x="6372360" y="2060640"/>
            <a:ext cx="2447640" cy="180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2" descr="1211270276_petrushka"/>
          <p:cNvPicPr/>
          <p:nvPr/>
        </p:nvPicPr>
        <p:blipFill>
          <a:blip r:embed="rId2"/>
          <a:stretch/>
        </p:blipFill>
        <p:spPr>
          <a:xfrm>
            <a:off x="1476360" y="2276640"/>
            <a:ext cx="273672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4" descr="1185319748_f"/>
          <p:cNvPicPr/>
          <p:nvPr/>
        </p:nvPicPr>
        <p:blipFill>
          <a:blip r:embed="rId3"/>
          <a:stretch/>
        </p:blipFill>
        <p:spPr>
          <a:xfrm>
            <a:off x="611280" y="4581360"/>
            <a:ext cx="2735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Пирамида здоров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120000" cy="446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Рекомендации правильн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таться нужно часто и небольшими порциями. Прием пищи через каждые 2-3 часа  не дает жиру накапливать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ом натощак нужно обязательно выпивать стакан теплой воды, так запускаются обменные процессы и пищеварительная систе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т лучше, если вы замените черный чай на травяной. Такой чай содержит много питательных веществ и витаминов, улучшает работу желудка, оказывает желчегонный и легкий мочегонный эфф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язательно употребляйте не менее 2л воды в день, она помогает эффективно выводить шлаки и участвует во всех обменных процесс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едите за калорийностью и не переедайте. Лишние килограммы накапливаются годами, поэтому лишние калории сразу практически незаметны. Пища нужна для работы организма, поэтому не стоит давать ему ненужную нагруз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бегайте продуктов, которые не приносят никакой пользы организму: консервы, колбасу, соленья, рафинированный сахар, различные сладости, в которых содержится много вредных добавок и консерва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 ешьте фрукты и овощи каждый день, предпочтение лучше отдавать сезонным. Кстати, любые углеводы лучше не употреблять после 18 часов, организм не успеет к ночи переварить их,  и отправит в жировое деп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шьте несколько раз в неделю рыбу и мясо. Курицу лучше ограничить, т.к. сейчас их выращивают с использованием гормонов и антибиотиков. Правильной и полезной такую еду никак не назовеш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айтесь чаще использовать зелень и приправы, они – богатый источник витаминов, а чеснок и специи надежно защищают от парази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айтесь ограничивать употребление соли, а еще лучше заменить ее на морскую. Она содержит меньше натрия, а витаминов и минералов – значительно больш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Немного о еде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а – это топливо, на котором работает наш организм. Необходимо правильно подходить к выбору продуктов. Они должны быть не только вкусными, но и полез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сожалению существует множество «нездоровых» продуктов, которые способствуют неправильному питанию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стфуды, сладости, газированные напитки, соль, майонез, чипсы, жирное мясо. Все эти продукты влияют на развитие гастрита, язвы желудка, анорексии, булемии, нарушают нашу внешнюю красо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ое питание помогает избавится от многих заболеваний, укрепить здоровье, повысить работоспособность и увеличить продолжительность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оровое питание-это путь к долгой и активной жизни, наполненной хорошими эмоц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О пользе здоров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Питайтесь правильн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Следите за своим весом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Будьте всегда здоров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4835880" cy="2992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4600"/>
                </a:solidFill>
                <a:latin typeface="Times New Roman"/>
              </a:rPr>
              <a:t>Что такое здоровое питани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81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оровое пит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— это питание, обеспечивающее рост, нормальное развитие и жизнедеятельность человека, способствующая укреплению его здоровья и профилактике заболе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3647880" cy="243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людение правил здорового питания в сочетании с регулярными физическими упражнениями сокращает риск хронических заболеваний и расстройств, таких как ожирение, сердечнососудистые заболевания, диабет, повышенное давление  и рак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2627280" y="3860640"/>
            <a:ext cx="4006800" cy="256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Принципы здорового пит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е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но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жим пит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2950920" cy="3397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Группы питательных вещест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05440" cy="5484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Бел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642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и – жизненно важная структура для организма человека. Из белковых компонентов состоят все клетки нашего организма, они входят в состав ДНК, ферментов. Поэтому в ежедневном рационе вашего питания должна быть белковая пища, список продуктов которой должен быть разнообразны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4819680" cy="2292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иболее мощный источник энергии. Жировые отложения защищают организм от потери тепла и ушиб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5180040" cy="32004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Углев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огают нашим мышцам работать. Они необходимы для нормального обмена белков и жи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00720" cy="3038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e38"/>
          </a:solidFill>
          <a:ln w="380880">
            <a:solidFill>
              <a:srgbClr val="1392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6421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тание является одним из важнейших факторов, способным оказать негативное влияние на формирующийся организм детей и подростков при неправильной его орган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a00"/>
                </a:solidFill>
                <a:latin typeface="Times New Roman"/>
              </a:rPr>
              <a:t>Роль питания в жизни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3429000" cy="2581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sily Zhuravlev</cp:lastModifiedBy>
  <dcterms:modified xsi:type="dcterms:W3CDTF">2024-02-15T07:29:10Z</dcterms:modified>
  <cp:revision>10</cp:revision>
  <dc:subject/>
  <dc:title>PowerPoint Presentation</dc:title>
</cp:coreProperties>
</file>