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15D-86E0-4954-A278-46FAC8B2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800-F4C5-4EC3-8F30-8CE8CDD5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D9A-7375-433C-9437-CECF77B8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A6C-F5F4-4C65-A1DD-17625990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4A31-7684-41BF-BE7F-2AA1B8A4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4E5A-CC07-4A72-8108-63A64416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A437-A602-4459-BC4A-78EFB7EB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783B-34B9-4FB4-B8EB-04E33EFA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12D7-F1D4-4070-9CA8-5499D532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9301-D1B4-46E8-B7B6-0F8F0099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DC71-7798-40B8-8B80-87D54C75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1A4-B31D-4BD1-826A-E74805EF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C32B-7327-4468-AACC-D779E990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1916-4A13-4EB3-AE3A-70397FA0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E2DD-9A75-43D5-BC67-B5E923ED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CCE5-CB7C-47CC-8A2C-E5AFA552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A0D2-420F-41DC-8441-3CC6A935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E6B3-D58A-4750-A81A-4F2DCCBD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7DD9-0BA2-46E9-9771-BC98214F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B1E1-BB75-464D-971A-E18A256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F878-63B8-43E9-A45A-82D58DE8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272A-D726-4C59-BD3A-4C5873DE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25A-5BBE-48F4-BD1E-64D305C3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5A0C6-50C7-468C-ABC6-3240A173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8477-DB4A-4EE6-B601-9AD0F2D1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BBDA-F820-451F-A434-C779BFF7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042DF-14F2-40FA-9613-96FB22E7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3F21-EF03-44F4-A7E1-A8F13E1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2CD8-07E6-45FB-9781-1140A0C0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2124-7BC7-4640-81ED-7C61826C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7D0AD-26A1-405F-BC58-AA32DE5B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459E-5E87-4CDD-9DF3-3A9B1D72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015F-B5C4-4223-8824-84B15267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D41-B641-43CE-847F-FEEEF647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776BB-4205-4761-8330-36E3D167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10F51-6929-4619-892A-37B1DC07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FE534-6217-4177-958C-0D6F7F5C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334B-1038-405C-9213-833B4DCE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2E5DE-3B4B-45C3-A33B-7EA15E46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4BCE-81B0-4924-BCEE-08C6027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26617-622F-44FE-A5EB-7A6F5251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4AEF-EC0A-459D-BED6-5D6191BE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33D2-C998-46AC-85E5-7468464C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1DEFC-B57C-4CDF-9030-6BB9FC8E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8A1-1A8B-4340-AB82-CDB8386B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1E2E8-1198-435A-95DD-2A3FB157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D679-B5AD-4D19-B871-72CFDCF8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517F-ABEC-46BA-91AF-6CDEE2EF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CF02-4153-47E4-9501-66521E20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11142-74B8-42E8-B019-A8EBB04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984AA-EF86-444C-B230-E542CA5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E80CC-1DE1-47F7-A0DB-B07BC1EE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D9075-A76C-4C09-A0E8-50110258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F98A-C3D6-4D8C-B746-A26438B6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9E30-203D-4C82-9D11-FAF1AC4E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136-586E-419E-8186-0F474279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F3154-ACD9-4A08-8F6B-B515D88A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484-06D4-4D09-8DC2-0CC6F3B7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7FD-2BF1-4737-A88D-FA56FBC3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5AE-9352-4C5D-9873-1B2FCF8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9908-FF24-4E4D-94B7-2D3395512C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97B3-356C-4998-BB3E-144062107EC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DAB3-DEAF-4174-B752-ED95ADFFB4A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895A-5FB1-43ED-9482-B7282223A6E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4548-4662-4AC4-9E88-4B197C3DEE0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"/>
          <p:cNvSpPr/>
          <p:nvPr/>
        </p:nvSpPr>
        <p:spPr>
          <a:xfrm>
            <a:off x="395280" y="404640"/>
            <a:ext cx="8137440" cy="49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«Здоровый педагог– здоровый ребенок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6246720" y="3645000"/>
            <a:ext cx="259092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-324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1"/>
          <p:cNvSpPr/>
          <p:nvPr/>
        </p:nvSpPr>
        <p:spPr>
          <a:xfrm>
            <a:off x="611280" y="333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Звуковая гимнаст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оугольник 2"/>
          <p:cNvSpPr/>
          <p:nvPr/>
        </p:nvSpPr>
        <p:spPr>
          <a:xfrm>
            <a:off x="287280" y="91764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койное, расслабленное состояние, стоя, с выпрямленной спиной. Сначала делаем глубокий вдох носом, а на выдохе громко и энергично произносим звук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– воздействует благотворно на весь организ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– воздействует на щитовидную желез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– воздействует на мозг, глаза, нос, уш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– воздействует на сердце, легк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– воздействует на орга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– воздействует на работу всего организм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– воздействует на работу всего организм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Х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– помогает очищению организм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ХА</a:t>
            </a: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 – помогает повысить настро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jondir.ru/dostb/%D0%A0%D0%B5%D1%88%D0%B5%D0%BD%D0%B8%D0%B5.+%D0%97%D0%B0%D0%B4%D0%B0%D1%87%D0%B8b/30645_html_m3c5110d7.gif"/>
          <p:cNvPicPr/>
          <p:nvPr/>
        </p:nvPicPr>
        <p:blipFill>
          <a:blip r:embed="rId2"/>
          <a:stretch/>
        </p:blipFill>
        <p:spPr>
          <a:xfrm>
            <a:off x="755640" y="936720"/>
            <a:ext cx="7483320" cy="577692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9"/>
          <p:cNvSpPr/>
          <p:nvPr/>
        </p:nvSpPr>
        <p:spPr>
          <a:xfrm>
            <a:off x="2174760" y="195120"/>
            <a:ext cx="47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«Радуга цвет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ttp://3.bp.blogspot.com/-qaRf8R-4BkM/VTCyb0mSDsI/AAAAAAAAYT4/nv7gIAxUFok/s1600/%D0%A6%D0%B2%D0%B5%D1%82%D0%BE%D0%BA%D0%BE%D1%80%D1%80%D0%B5%D0%BA%D1%86%D0%B8%D1%8F%2B6.jpg"/>
          <p:cNvPicPr/>
          <p:nvPr/>
        </p:nvPicPr>
        <p:blipFill>
          <a:blip r:embed="rId2"/>
          <a:stretch/>
        </p:blipFill>
        <p:spPr>
          <a:xfrm>
            <a:off x="0" y="371520"/>
            <a:ext cx="9036000" cy="605484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1187280" y="93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5"/>
          <p:cNvSpPr/>
          <p:nvPr/>
        </p:nvSpPr>
        <p:spPr>
          <a:xfrm>
            <a:off x="539640" y="5493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«Я в лучах солнца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2" descr="http://ped-kopilka.ru/images/photos/medium/article5826.jpg"/>
          <p:cNvPicPr/>
          <p:nvPr/>
        </p:nvPicPr>
        <p:blipFill>
          <a:blip r:embed="rId2"/>
          <a:stretch/>
        </p:blipFill>
        <p:spPr>
          <a:xfrm>
            <a:off x="5940360" y="1442880"/>
            <a:ext cx="3094200" cy="2532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ttp://www.stihi.ru/pics/2014/10/07/6021.jpg"/>
          <p:cNvPicPr/>
          <p:nvPr/>
        </p:nvPicPr>
        <p:blipFill>
          <a:blip r:embed="rId3"/>
          <a:stretch/>
        </p:blipFill>
        <p:spPr>
          <a:xfrm>
            <a:off x="108000" y="1484280"/>
            <a:ext cx="6161040" cy="4621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111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ecx.images-amazon.com/images/I/51s9DeYfzuL.jpg"/>
          <p:cNvPicPr/>
          <p:nvPr/>
        </p:nvPicPr>
        <p:blipFill>
          <a:blip r:embed="rId2"/>
          <a:stretch/>
        </p:blipFill>
        <p:spPr>
          <a:xfrm>
            <a:off x="266760" y="32846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https://otvet.imgsmail.ru/download/211642688_e3ebfac40281b3cf2377461fea723cfa_800.jpg"/>
          <p:cNvPicPr/>
          <p:nvPr/>
        </p:nvPicPr>
        <p:blipFill>
          <a:blip r:embed="rId3"/>
          <a:stretch/>
        </p:blipFill>
        <p:spPr>
          <a:xfrm>
            <a:off x="2995560" y="32734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274" name="Выноска со стрелкой вниз 1"/>
          <p:cNvSpPr/>
          <p:nvPr/>
        </p:nvSpPr>
        <p:spPr>
          <a:xfrm>
            <a:off x="395280" y="1341360"/>
            <a:ext cx="2390760" cy="1943280"/>
          </a:xfrm>
          <a:prstGeom prst="downArrowCallout">
            <a:avLst>
              <a:gd name="adj1" fmla="val 24995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нравилось все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Выноска со стрелкой вниз 9"/>
          <p:cNvSpPr/>
          <p:nvPr/>
        </p:nvSpPr>
        <p:spPr>
          <a:xfrm>
            <a:off x="3059280" y="1341360"/>
            <a:ext cx="2390760" cy="1943280"/>
          </a:xfrm>
          <a:prstGeom prst="downArrowCallout">
            <a:avLst>
              <a:gd name="adj1" fmla="val 24995"/>
              <a:gd name="adj2" fmla="val 24998"/>
              <a:gd name="adj3" fmla="val 25000"/>
              <a:gd name="adj4" fmla="val 64977"/>
            </a:avLst>
          </a:prstGeom>
          <a:gradFill rotWithShape="0">
            <a:gsLst>
              <a:gs pos="0">
                <a:srgbClr val="9cce95"/>
              </a:gs>
              <a:gs pos="100000">
                <a:srgbClr val="d6efd3"/>
              </a:gs>
            </a:gsLst>
            <a:lin ang="16200000"/>
          </a:gradFill>
          <a:ln w="9360">
            <a:solidFill>
              <a:srgbClr val="439631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мало новог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ыло скучн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Выноска со стрелкой вниз 10"/>
          <p:cNvSpPr/>
          <p:nvPr/>
        </p:nvSpPr>
        <p:spPr>
          <a:xfrm>
            <a:off x="6227640" y="1362240"/>
            <a:ext cx="2390760" cy="194436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gradFill rotWithShape="0">
            <a:gsLst>
              <a:gs pos="0">
                <a:srgbClr val="e78388"/>
              </a:gs>
              <a:gs pos="100000">
                <a:srgbClr val="fbcacc"/>
              </a:gs>
            </a:gsLst>
            <a:lin ang="16200000"/>
          </a:gradFill>
          <a:ln w="9360">
            <a:solidFill>
              <a:srgbClr val="bd0c1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 понравилось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0" descr="http://images.huffingtonpost.com/2014-04-23-nojob-thumb.jpg"/>
          <p:cNvPicPr/>
          <p:nvPr/>
        </p:nvPicPr>
        <p:blipFill>
          <a:blip r:embed="rId4"/>
          <a:stretch/>
        </p:blipFill>
        <p:spPr>
          <a:xfrm>
            <a:off x="5651640" y="3306600"/>
            <a:ext cx="3168360" cy="247680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2" descr=""/>
          <p:cNvPicPr/>
          <p:nvPr/>
        </p:nvPicPr>
        <p:blipFill>
          <a:blip r:embed="rId5"/>
          <a:stretch/>
        </p:blipFill>
        <p:spPr>
          <a:xfrm>
            <a:off x="1695600" y="201600"/>
            <a:ext cx="5381640" cy="998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Users\Наташенька\Desktop\1724380.5354.gif"/>
          <p:cNvPicPr/>
          <p:nvPr/>
        </p:nvPicPr>
        <p:blipFill>
          <a:blip r:embed="rId2"/>
          <a:stretch/>
        </p:blipFill>
        <p:spPr>
          <a:xfrm>
            <a:off x="2076480" y="1484280"/>
            <a:ext cx="4981680" cy="372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395280" y="765000"/>
            <a:ext cx="84247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«Здоровье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– это состояние полного физического, духовного и социального благополучия, а не только отсутствие болезней или физических дефектов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rcRect l="0" t="0" r="0" b="13500"/>
          <a:stretch/>
        </p:blipFill>
        <p:spPr>
          <a:xfrm>
            <a:off x="6804000" y="260280"/>
            <a:ext cx="1692360" cy="1857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1547640" y="4046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177840" y="58896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Verdana"/>
              </a:rPr>
              <a:t>Факторы,  влияющие на здоровье педагого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395280" y="1192320"/>
            <a:ext cx="842472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ольшое нервно-психическое напряжени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иподинамия (ограничение двигательной активности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овышенная нагрузка на зрительный, слуховой и голосовой аппараты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тсутствие эмоциональной разряд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ольшое количество контактов во время рабочего д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усталость - это нарушение кровоснабжения, гибель нервных клеток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тсутствие средств на отдых и неумение отдыхать (смена одной работы на другую - это не отдых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1547640" y="4046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395280" y="1192320"/>
            <a:ext cx="84247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"/>
          <p:cNvSpPr/>
          <p:nvPr/>
        </p:nvSpPr>
        <p:spPr>
          <a:xfrm>
            <a:off x="826920" y="2667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Итоги анкетирования  педагогов-(март202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01760" y="1341360"/>
            <a:ext cx="806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65% педагогов идут на прием к врачу тогда, когда на работу идти не могут;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-45%педагогов ответили, что бывает  сложно снять эмоциональное напряжение, возникающее  после рабочего дня;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-65% педагогов ответили, что плохо засыпают из-за переживаний, связанных с работой;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-15% педагогов ответили иногда нервы бывают натянуты до предела;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-50% педагогов ответили, что часто чувствуют себя  перегруженными проблемами других люд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"/>
          <p:cNvSpPr/>
          <p:nvPr/>
        </p:nvSpPr>
        <p:spPr>
          <a:xfrm>
            <a:off x="250920" y="260280"/>
            <a:ext cx="770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826920" y="260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Заболевания, связанны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с профессиональной деятельность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-15840" y="1838160"/>
            <a:ext cx="8548560" cy="37450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3" descr="presenting.jpg"/>
          <p:cNvPicPr/>
          <p:nvPr/>
        </p:nvPicPr>
        <p:blipFill>
          <a:blip r:embed="rId3"/>
          <a:stretch/>
        </p:blipFill>
        <p:spPr>
          <a:xfrm>
            <a:off x="5307120" y="3397320"/>
            <a:ext cx="3529080" cy="28810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5"/>
          <p:cNvSpPr/>
          <p:nvPr/>
        </p:nvSpPr>
        <p:spPr>
          <a:xfrm>
            <a:off x="4788000" y="4653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Овал 6"/>
          <p:cNvSpPr/>
          <p:nvPr/>
        </p:nvSpPr>
        <p:spPr>
          <a:xfrm>
            <a:off x="4265640" y="3933720"/>
            <a:ext cx="2805120" cy="2506680"/>
          </a:xfrm>
          <a:prstGeom prst="ellipse">
            <a:avLst/>
          </a:prstGeom>
          <a:gradFill rotWithShape="0">
            <a:gsLst>
              <a:gs pos="0">
                <a:srgbClr val="ff9c58"/>
              </a:gs>
              <a:gs pos="100000">
                <a:srgbClr val="ffcdac"/>
              </a:gs>
            </a:gsLst>
            <a:lin ang="16200000"/>
          </a:gradFill>
          <a:ln w="9360">
            <a:solidFill>
              <a:srgbClr val="ff8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Необходимы регулярны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профилактическ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Verdana"/>
              </a:rPr>
              <a:t>мероприяти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"/>
          <p:cNvSpPr/>
          <p:nvPr/>
        </p:nvSpPr>
        <p:spPr>
          <a:xfrm>
            <a:off x="0" y="189000"/>
            <a:ext cx="8532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Синдром эмоционального или профессионального выгора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Неблагоприятная реакция человека на стресс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лученный на рабо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6480" y="1724040"/>
            <a:ext cx="88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285840">
              <a:buClr>
                <a:srgbClr val="99284c"/>
              </a:buClr>
              <a:buSzPct val="7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Педагог быстрее стареет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285840">
              <a:buClr>
                <a:srgbClr val="99284c"/>
              </a:buClr>
              <a:buSzPct val="7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При достижении определенного уровня напряжения организм начинает защищать себ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285840">
              <a:buClr>
                <a:srgbClr val="99284c"/>
              </a:buClr>
              <a:buSzPct val="7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35-45 лет - критический возраст педагог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285840">
              <a:buClr>
                <a:srgbClr val="99284c"/>
              </a:buClr>
              <a:buSzPct val="7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Усталость, чувство истощ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285840">
              <a:buClr>
                <a:srgbClr val="99284c"/>
              </a:buClr>
              <a:buSzPct val="7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Восприимчивость к изменениям показателей внешней сре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285840">
              <a:buClr>
                <a:srgbClr val="99284c"/>
              </a:buClr>
              <a:buSzPct val="7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Ухудшение работоспособности, памяти, вним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285840">
              <a:buClr>
                <a:srgbClr val="99284c"/>
              </a:buClr>
              <a:buSzPct val="7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Частые головные боли, расстройства желудочно-кишечного тракта, одышка, бессонниц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285840">
              <a:buClr>
                <a:srgbClr val="99284c"/>
              </a:buClr>
              <a:buSzPct val="7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Работа становится все тяжелее, а способность выполнять ее все меньш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57120" indent="-285840">
              <a:buClr>
                <a:srgbClr val="99284c"/>
              </a:buClr>
              <a:buSzPct val="7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Возникает чувство обиды, невостребованности, разочарования, гнева, ску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812000" y="5051520"/>
            <a:ext cx="1233720" cy="1797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179280" y="1844640"/>
            <a:ext cx="889344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432000">
              <a:lnSpc>
                <a:spcPct val="90000"/>
              </a:lnSpc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иногда достаточно самопомощи, изучения соответствующей литературы, поддержки близких и грамотных люде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lnSpc>
                <a:spcPct val="90000"/>
              </a:lnSpc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Овладевайте навыками саморегуляции. Релаксация, внутренний настрой способствуют снижению стресса, ведущего к выгоранию, а также уменьшению риска развития различных заболеваний (от стенокардии и гипертонии до онкологической патологии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Стремление к снижению мышечного напряж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Избегайте ненужной конкуренции. Помните, что чрезмерное стремление к выигрышу порождает тревогу, делает человека агрессивным, что способствует возникновению психоэмоциональных заболев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Ежедневно тренируйте память, заучивая новые слова (например, иностранного языка), решая кроссворды, собирая пазлы и т. 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 algn="just">
              <a:buClr>
                <a:srgbClr val="000000"/>
              </a:buClr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179280" y="404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Каким образом мы можем помочь себе избежать профессионального выгоран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-2232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1"/>
          <p:cNvSpPr/>
          <p:nvPr/>
        </p:nvSpPr>
        <p:spPr>
          <a:xfrm>
            <a:off x="539640" y="33336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Обучение способам управления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дыхани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-22320" y="1557360"/>
            <a:ext cx="898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Представьте что перед вашим носом на расстоянии 10-15 см. висит пушинка. Дышите только носом и так плавно, чтобы пушинка не колыхала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В ситуации гнева и раздражения не забывать делать нормальный выдох. Глубоко вдохнуть, задержать  дыхание так надолго, как это возможно, выдохну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C:\Users\Наташенька\Desktop\15997058-puinca.jpg"/>
          <p:cNvPicPr/>
          <p:nvPr/>
        </p:nvPicPr>
        <p:blipFill>
          <a:blip r:embed="rId2"/>
          <a:stretch/>
        </p:blipFill>
        <p:spPr>
          <a:xfrm>
            <a:off x="4788000" y="4583160"/>
            <a:ext cx="1660320" cy="2117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Наташенька\Desktop\1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1"/>
          <p:cNvSpPr/>
          <p:nvPr/>
        </p:nvSpPr>
        <p:spPr>
          <a:xfrm>
            <a:off x="468360" y="33336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Маски релаксации для мышц лиц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441360" y="1125360"/>
            <a:ext cx="823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ска Удивления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медленным вдохом постепенно поднять брови так высоко, как это только возможно.На высоте вдоха задержать на секунду дыхание и отпустить с выдохом бров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ска Гнев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медленным вдохом постепенно нахмурить брови.На высоте вдоха задержать дыхание. С выдохом расслабить бров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ска Поцелу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Одновременно со вдохом постепенно сжимать губы(трубочкой).зафиксировать усилие.Задержать дыхание.С выдохом расслабить гу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ска Смех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уть прищурить глаза, со вдохом слегка сжать губы, растянуть в улыбке. С выдохом расслабить гу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Рисунок 6" descr="C:\Users\Наташенька\Desktop\KVze7p2R46s.jpg.b4579090284dfb16d112ec8bd266a6d3.jpg"/>
          <p:cNvPicPr/>
          <p:nvPr/>
        </p:nvPicPr>
        <p:blipFill>
          <a:blip r:embed="rId2"/>
          <a:stretch/>
        </p:blipFill>
        <p:spPr>
          <a:xfrm>
            <a:off x="2411280" y="4264200"/>
            <a:ext cx="4105440" cy="2477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17:28:09Z</dcterms:created>
  <dc:creator>Наташенька</dc:creator>
  <dc:description/>
  <dc:language>en-US</dc:language>
  <cp:lastModifiedBy>Vasily Zhuravlev</cp:lastModifiedBy>
  <dcterms:modified xsi:type="dcterms:W3CDTF">2024-02-15T07:16:11Z</dcterms:modified>
  <cp:revision>26</cp:revision>
  <dc:subject/>
  <dc:title>Презентация PowerPoint</dc:title>
</cp:coreProperties>
</file>